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DRIVEBY.WAV" ContentType="audio/x-wav"/>
  <Override PartName="/ppt/media/LASER.WAV" ContentType="audio/x-wav"/>
  <Override PartName="/ppt/media/TYPE.WAV" ContentType="audio/x-wav"/>
  <Override PartName="/ppt/media/image2.wmf" ContentType="image/x-wmf"/>
  <Override PartName="/ppt/media/EXPLODE.WAV" ContentType="audio/x-wav"/>
  <Override PartName="/ppt/media/GLASS.WAV" ContentType="audio/x-wav"/>
  <Override PartName="/ppt/media/CLAP.WAV" ContentType="audio/x-wav"/>
  <Override PartName="/ppt/media/APPLAUSE.WAV" ContentType="audio/x-wav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BE2-D6C1-425D-8F17-4B0799CB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634-FD74-4BC5-9F9D-63D7F594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F8D7-0D88-441F-89A8-A0D60F53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712-5E88-48AB-AB38-F2F070CD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5300-718A-4A22-B089-47A09FF7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521-1F93-4EAC-9F83-71AA6744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99A-5D50-4431-A4BB-12E0FA5A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496-DFE9-4557-A65A-F7BE9286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F6C-6BFC-426D-AF5B-2779B96F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7BA8-1EB1-46B8-94B3-1F62F1BD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EE2-9F71-4CA2-A67C-151646DD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08B-5A4B-4B83-B309-DA1001ED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859A-D1D7-4583-9A37-585487BE7C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audio" Target="../media/TYPE.WAV"/><Relationship Id="rId2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audio" Target="../media/GLAS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TYPE.WAV"/><Relationship Id="rId23" Type="http://schemas.openxmlformats.org/officeDocument/2006/relationships/audio" Target="../media/TYPE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TYPE.WAV"/><Relationship Id="rId30" Type="http://schemas.openxmlformats.org/officeDocument/2006/relationships/audio" Target="../media/TYPE.WAV"/><Relationship Id="rId31" Type="http://schemas.openxmlformats.org/officeDocument/2006/relationships/audio" Target="../media/TYPE.WAV"/><Relationship Id="rId32" Type="http://schemas.openxmlformats.org/officeDocument/2006/relationships/audio" Target="../media/TYPE.WAV"/><Relationship Id="rId3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LAP.WAV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audio" Target="../media/CLAP.WAV"/><Relationship Id="rId7" Type="http://schemas.openxmlformats.org/officeDocument/2006/relationships/audio" Target="../media/CLAP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ces and Formul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291360" y="1376280"/>
                <a:ext cx="1449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220840" y="1695600"/>
                <a:ext cx="1432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208240" y="2751120"/>
                <a:ext cx="11556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135160" y="3543480"/>
                <a:ext cx="11574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225520" y="4116240"/>
                <a:ext cx="10256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410160" y="2455920"/>
                <a:ext cx="13417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630840" y="3463920"/>
                <a:ext cx="10494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593040" y="4230720"/>
                <a:ext cx="11476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1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4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4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77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7" dur="770" fill="hold"/>
                                        <p:tgtEl>
                                          <p:spTgt spid="2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9" dur="77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1" dur="77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411960" y="1376280"/>
                <a:ext cx="1208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979640" y="1652760"/>
                <a:ext cx="12430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124000" y="2604960"/>
                <a:ext cx="10033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92320" y="3560760"/>
                <a:ext cx="1244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95640" y="4260960"/>
                <a:ext cx="9824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6386400" y="2625840"/>
                <a:ext cx="13906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443640" y="3213000"/>
                <a:ext cx="1244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x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459480" y="3716280"/>
                <a:ext cx="14162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394320" y="4149720"/>
                <a:ext cx="1562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603840" y="4711680"/>
                <a:ext cx="1098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6588000" y="5589720"/>
                <a:ext cx="1098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291360" y="1565280"/>
                <a:ext cx="1449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327400" y="1668600"/>
                <a:ext cx="121608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293920" y="2730600"/>
                <a:ext cx="9810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6459480" y="2638440"/>
                <a:ext cx="12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581880" y="3463920"/>
                <a:ext cx="11491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91360" y="1417680"/>
                <a:ext cx="1449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260440" y="1695600"/>
                <a:ext cx="1351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239920" y="2751120"/>
                <a:ext cx="10908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166840" y="3532320"/>
                <a:ext cx="109224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225520" y="4116240"/>
                <a:ext cx="10256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350040" y="2455920"/>
                <a:ext cx="146376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594480" y="3427560"/>
                <a:ext cx="11239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556320" y="4194000"/>
                <a:ext cx="12207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386400" y="1417680"/>
                <a:ext cx="12574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138400" y="1641600"/>
                <a:ext cx="15955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185920" y="2730600"/>
                <a:ext cx="1200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101680" y="3510000"/>
                <a:ext cx="1222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171880" y="4094280"/>
                <a:ext cx="1134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434280" y="2455920"/>
                <a:ext cx="12938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386400" y="3622680"/>
                <a:ext cx="1540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8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0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411960" y="1393920"/>
                <a:ext cx="120816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967040" y="1652760"/>
                <a:ext cx="1269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112840" y="2604960"/>
                <a:ext cx="102564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081160" y="3560760"/>
                <a:ext cx="12668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185920" y="4260960"/>
                <a:ext cx="1003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362640" y="2581200"/>
                <a:ext cx="14400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370560" y="3213000"/>
                <a:ext cx="13906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6472080" y="3830760"/>
                <a:ext cx="13906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6394320" y="4454640"/>
                <a:ext cx="1562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603840" y="5000760"/>
                <a:ext cx="1098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s and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8075520" y="2820960"/>
            <a:ext cx="505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53040" y="2108160"/>
            <a:ext cx="5032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40720" y="24606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the semi-interquartile range from the Stem and leaf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39640" y="1557360"/>
            <a:ext cx="3745080" cy="2232000"/>
            <a:chOff x="539640" y="1557360"/>
            <a:chExt cx="3745080" cy="2232000"/>
          </a:xfrm>
        </p:grpSpPr>
        <p:sp>
          <p:nvSpPr>
            <p:cNvPr id="363" name=""/>
            <p:cNvSpPr/>
            <p:nvPr/>
          </p:nvSpPr>
          <p:spPr>
            <a:xfrm>
              <a:off x="900000" y="155736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9640" y="1702080"/>
              <a:ext cx="331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  5  2  7  1  0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9640" y="210852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  1  6  0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9640" y="2468880"/>
              <a:ext cx="32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  2  1  9  3  4  3  1 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9640" y="2827440"/>
              <a:ext cx="35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  1  2  9  2  8  2  0  2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9640" y="318780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  3  1  0  4  7  3  1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003640" y="1557360"/>
            <a:ext cx="3745080" cy="2232000"/>
            <a:chOff x="5003640" y="1557360"/>
            <a:chExt cx="3745080" cy="2232000"/>
          </a:xfrm>
        </p:grpSpPr>
        <p:sp>
          <p:nvSpPr>
            <p:cNvPr id="370" name=""/>
            <p:cNvSpPr/>
            <p:nvPr/>
          </p:nvSpPr>
          <p:spPr>
            <a:xfrm>
              <a:off x="5364000" y="155736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03640" y="1702080"/>
              <a:ext cx="331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  0  1  2  2  5 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03640" y="210852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  0  1  2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03640" y="2468880"/>
              <a:ext cx="32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  1  1  2  3  3  4  8 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03640" y="2827440"/>
              <a:ext cx="35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  0  1  2  2  2  2  2  8 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03640" y="318780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  0  1  1  1  3  3  4 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636480" y="4098960"/>
            <a:ext cx="458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35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6200" y="4695840"/>
            <a:ext cx="428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17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5560" y="5276880"/>
            <a:ext cx="434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17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2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30960" y="4076640"/>
            <a:ext cx="187776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72000" y="4673520"/>
            <a:ext cx="171468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87840" y="5276880"/>
            <a:ext cx="171468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5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58920" y="6021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SIQR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43280" y="602136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59 – 32)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2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12000" y="6021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1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983200" y="2882880"/>
            <a:ext cx="522360" cy="490680"/>
          </a:xfrm>
          <a:prstGeom prst="ellipse">
            <a:avLst/>
          </a:prstGeom>
          <a:solidFill>
            <a:srgbClr val="f1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93760" y="2898720"/>
            <a:ext cx="522360" cy="490680"/>
          </a:xfrm>
          <a:prstGeom prst="ellipse">
            <a:avLst/>
          </a:prstGeom>
          <a:solidFill>
            <a:srgbClr val="f1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21200" y="2889360"/>
            <a:ext cx="522360" cy="490320"/>
          </a:xfrm>
          <a:prstGeom prst="ellipse">
            <a:avLst/>
          </a:prstGeom>
          <a:solidFill>
            <a:srgbClr val="f1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pil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d the following grad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r S1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0720" y="1658880"/>
            <a:ext cx="77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89%, 61%, 75%, 84%, 99%, 67%, 91%, 62%, 79%, 90%, 6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6440" y="2227320"/>
            <a:ext cx="70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w a box plot to illustrate her 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0080" y="2954160"/>
            <a:ext cx="77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61%, 62%, 64%, 67%, 75%, 79%, 84%, 89%, 90%, 91%,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36480" y="4294080"/>
            <a:ext cx="458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11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6200" y="4890960"/>
            <a:ext cx="428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5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55560" y="5472000"/>
            <a:ext cx="434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5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66800" y="3265560"/>
            <a:ext cx="7067520" cy="447480"/>
            <a:chOff x="766800" y="3265560"/>
            <a:chExt cx="7067520" cy="447480"/>
          </a:xfrm>
        </p:grpSpPr>
        <p:sp>
          <p:nvSpPr>
            <p:cNvPr id="396" name=""/>
            <p:cNvSpPr/>
            <p:nvPr/>
          </p:nvSpPr>
          <p:spPr>
            <a:xfrm>
              <a:off x="766800" y="3265560"/>
              <a:ext cx="3168720" cy="422280"/>
            </a:xfrm>
            <a:custGeom>
              <a:avLst/>
              <a:gdLst/>
              <a:ahLst/>
              <a:rect l="l" t="t" r="r" b="b"/>
              <a:pathLst>
                <a:path w="1996" h="266">
                  <a:moveTo>
                    <a:pt x="0" y="0"/>
                  </a:moveTo>
                  <a:cubicBezTo>
                    <a:pt x="308" y="124"/>
                    <a:pt x="616" y="248"/>
                    <a:pt x="782" y="257"/>
                  </a:cubicBezTo>
                  <a:cubicBezTo>
                    <a:pt x="948" y="266"/>
                    <a:pt x="929" y="55"/>
                    <a:pt x="998" y="52"/>
                  </a:cubicBezTo>
                  <a:cubicBezTo>
                    <a:pt x="1067" y="49"/>
                    <a:pt x="1028" y="241"/>
                    <a:pt x="1194" y="237"/>
                  </a:cubicBezTo>
                  <a:cubicBezTo>
                    <a:pt x="1360" y="233"/>
                    <a:pt x="1678" y="132"/>
                    <a:pt x="1996" y="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65600" y="3290760"/>
              <a:ext cx="3168720" cy="422280"/>
            </a:xfrm>
            <a:custGeom>
              <a:avLst/>
              <a:gdLst/>
              <a:ahLst/>
              <a:rect l="l" t="t" r="r" b="b"/>
              <a:pathLst>
                <a:path w="1996" h="266">
                  <a:moveTo>
                    <a:pt x="0" y="0"/>
                  </a:moveTo>
                  <a:cubicBezTo>
                    <a:pt x="308" y="124"/>
                    <a:pt x="616" y="248"/>
                    <a:pt x="782" y="257"/>
                  </a:cubicBezTo>
                  <a:cubicBezTo>
                    <a:pt x="948" y="266"/>
                    <a:pt x="929" y="55"/>
                    <a:pt x="998" y="52"/>
                  </a:cubicBezTo>
                  <a:cubicBezTo>
                    <a:pt x="1067" y="49"/>
                    <a:pt x="1028" y="241"/>
                    <a:pt x="1194" y="237"/>
                  </a:cubicBezTo>
                  <a:cubicBezTo>
                    <a:pt x="1360" y="233"/>
                    <a:pt x="1678" y="132"/>
                    <a:pt x="1996" y="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286240" y="4297320"/>
            <a:ext cx="171468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7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27640" y="4894200"/>
            <a:ext cx="171468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6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43480" y="5497560"/>
            <a:ext cx="171468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500"/>
                            </p:stCondLst>
                            <p:childTnLst>
                              <p:par>
                                <p:cTn id="18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395280" y="1908000"/>
            <a:ext cx="8064360" cy="657000"/>
            <a:chOff x="395280" y="1908000"/>
            <a:chExt cx="8064360" cy="657000"/>
          </a:xfrm>
        </p:grpSpPr>
        <p:sp>
          <p:nvSpPr>
            <p:cNvPr id="402" name=""/>
            <p:cNvSpPr/>
            <p:nvPr/>
          </p:nvSpPr>
          <p:spPr>
            <a:xfrm>
              <a:off x="611280" y="1908000"/>
              <a:ext cx="756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12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6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42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58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7636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23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23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08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24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40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574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77344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7020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862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018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178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3528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12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512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6728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82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98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1636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323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323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4836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364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80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974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344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1200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276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436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596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7708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30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930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087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247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407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5816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741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280" y="2196720"/>
              <a:ext cx="806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4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5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60            70              80            90            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924360" y="907560"/>
            <a:ext cx="4103640" cy="864000"/>
            <a:chOff x="3924360" y="907560"/>
            <a:chExt cx="4103640" cy="864000"/>
          </a:xfrm>
        </p:grpSpPr>
        <p:sp>
          <p:nvSpPr>
            <p:cNvPr id="447" name=""/>
            <p:cNvSpPr/>
            <p:nvPr/>
          </p:nvSpPr>
          <p:spPr>
            <a:xfrm flipV="1">
              <a:off x="392436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28472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594036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09308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802800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24360" y="1339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84720" y="90792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84720" y="177156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91280" y="13399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9" dur="indefinite" restart="never" nodeType="tmRoot">
          <p:childTnLst>
            <p:seq>
              <p:cTn id="1860" dur="indefinite" nodeType="mainSeq">
                <p:childTnLst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038480" y="2819160"/>
            <a:ext cx="152280" cy="990360"/>
            <a:chOff x="4038480" y="2819160"/>
            <a:chExt cx="152280" cy="990360"/>
          </a:xfrm>
        </p:grpSpPr>
        <p:sp>
          <p:nvSpPr>
            <p:cNvPr id="44" name=""/>
            <p:cNvSpPr/>
            <p:nvPr/>
          </p:nvSpPr>
          <p:spPr>
            <a:xfrm flipV="1">
              <a:off x="4038480" y="2818800"/>
              <a:ext cx="152280" cy="990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4038480" y="365688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pattern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3520" y="1981080"/>
            <a:ext cx="152280" cy="990720"/>
            <a:chOff x="533520" y="1981080"/>
            <a:chExt cx="152280" cy="990720"/>
          </a:xfrm>
        </p:grpSpPr>
        <p:sp>
          <p:nvSpPr>
            <p:cNvPr id="48" name=""/>
            <p:cNvSpPr/>
            <p:nvPr/>
          </p:nvSpPr>
          <p:spPr>
            <a:xfrm>
              <a:off x="53352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371600" y="1981080"/>
            <a:ext cx="152280" cy="990720"/>
            <a:chOff x="1371600" y="1981080"/>
            <a:chExt cx="152280" cy="990720"/>
          </a:xfrm>
        </p:grpSpPr>
        <p:sp>
          <p:nvSpPr>
            <p:cNvPr id="51" name=""/>
            <p:cNvSpPr/>
            <p:nvPr/>
          </p:nvSpPr>
          <p:spPr>
            <a:xfrm>
              <a:off x="137160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160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4400" y="2819160"/>
            <a:ext cx="152280" cy="990360"/>
            <a:chOff x="914400" y="2819160"/>
            <a:chExt cx="152280" cy="990360"/>
          </a:xfrm>
        </p:grpSpPr>
        <p:sp>
          <p:nvSpPr>
            <p:cNvPr id="54" name=""/>
            <p:cNvSpPr/>
            <p:nvPr/>
          </p:nvSpPr>
          <p:spPr>
            <a:xfrm flipV="1">
              <a:off x="914400" y="2818800"/>
              <a:ext cx="152280" cy="990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914400" y="365688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19520" y="1981080"/>
            <a:ext cx="152280" cy="990720"/>
            <a:chOff x="2819520" y="1981080"/>
            <a:chExt cx="152280" cy="990720"/>
          </a:xfrm>
        </p:grpSpPr>
        <p:sp>
          <p:nvSpPr>
            <p:cNvPr id="57" name=""/>
            <p:cNvSpPr/>
            <p:nvPr/>
          </p:nvSpPr>
          <p:spPr>
            <a:xfrm>
              <a:off x="281952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952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657600" y="1981080"/>
            <a:ext cx="152280" cy="990720"/>
            <a:chOff x="3657600" y="1981080"/>
            <a:chExt cx="152280" cy="990720"/>
          </a:xfrm>
        </p:grpSpPr>
        <p:sp>
          <p:nvSpPr>
            <p:cNvPr id="60" name=""/>
            <p:cNvSpPr/>
            <p:nvPr/>
          </p:nvSpPr>
          <p:spPr>
            <a:xfrm>
              <a:off x="365760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5760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200400" y="2819160"/>
            <a:ext cx="152280" cy="990360"/>
            <a:chOff x="3200400" y="2819160"/>
            <a:chExt cx="152280" cy="990360"/>
          </a:xfrm>
        </p:grpSpPr>
        <p:sp>
          <p:nvSpPr>
            <p:cNvPr id="63" name=""/>
            <p:cNvSpPr/>
            <p:nvPr/>
          </p:nvSpPr>
          <p:spPr>
            <a:xfrm flipV="1">
              <a:off x="3200400" y="2818800"/>
              <a:ext cx="152280" cy="990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200400" y="365688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95680" y="1981080"/>
            <a:ext cx="152280" cy="990720"/>
            <a:chOff x="4495680" y="1981080"/>
            <a:chExt cx="152280" cy="990720"/>
          </a:xfrm>
        </p:grpSpPr>
        <p:sp>
          <p:nvSpPr>
            <p:cNvPr id="66" name=""/>
            <p:cNvSpPr/>
            <p:nvPr/>
          </p:nvSpPr>
          <p:spPr>
            <a:xfrm>
              <a:off x="449568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9568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657600" y="2819520"/>
            <a:ext cx="990720" cy="152280"/>
            <a:chOff x="3657600" y="2819520"/>
            <a:chExt cx="990720" cy="152280"/>
          </a:xfrm>
        </p:grpSpPr>
        <p:sp>
          <p:nvSpPr>
            <p:cNvPr id="69" name=""/>
            <p:cNvSpPr/>
            <p:nvPr/>
          </p:nvSpPr>
          <p:spPr>
            <a:xfrm>
              <a:off x="3657600" y="2819520"/>
              <a:ext cx="99072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5680" y="2819520"/>
              <a:ext cx="15264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791320" y="1981080"/>
            <a:ext cx="152280" cy="990720"/>
            <a:chOff x="5791320" y="1981080"/>
            <a:chExt cx="152280" cy="990720"/>
          </a:xfrm>
        </p:grpSpPr>
        <p:sp>
          <p:nvSpPr>
            <p:cNvPr id="72" name=""/>
            <p:cNvSpPr/>
            <p:nvPr/>
          </p:nvSpPr>
          <p:spPr>
            <a:xfrm>
              <a:off x="579132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132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629400" y="1981080"/>
            <a:ext cx="152280" cy="990720"/>
            <a:chOff x="6629400" y="1981080"/>
            <a:chExt cx="152280" cy="990720"/>
          </a:xfrm>
        </p:grpSpPr>
        <p:sp>
          <p:nvSpPr>
            <p:cNvPr id="75" name=""/>
            <p:cNvSpPr/>
            <p:nvPr/>
          </p:nvSpPr>
          <p:spPr>
            <a:xfrm>
              <a:off x="662940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2940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172200" y="2819160"/>
            <a:ext cx="152280" cy="990360"/>
            <a:chOff x="6172200" y="2819160"/>
            <a:chExt cx="152280" cy="990360"/>
          </a:xfrm>
        </p:grpSpPr>
        <p:sp>
          <p:nvSpPr>
            <p:cNvPr id="78" name=""/>
            <p:cNvSpPr/>
            <p:nvPr/>
          </p:nvSpPr>
          <p:spPr>
            <a:xfrm flipV="1">
              <a:off x="6172200" y="2818800"/>
              <a:ext cx="152280" cy="990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172200" y="365688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467480" y="1981080"/>
            <a:ext cx="152280" cy="990720"/>
            <a:chOff x="7467480" y="1981080"/>
            <a:chExt cx="152280" cy="990720"/>
          </a:xfrm>
        </p:grpSpPr>
        <p:sp>
          <p:nvSpPr>
            <p:cNvPr id="81" name=""/>
            <p:cNvSpPr/>
            <p:nvPr/>
          </p:nvSpPr>
          <p:spPr>
            <a:xfrm>
              <a:off x="746748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6748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010280" y="2819160"/>
            <a:ext cx="152280" cy="990360"/>
            <a:chOff x="7010280" y="2819160"/>
            <a:chExt cx="152280" cy="990360"/>
          </a:xfrm>
        </p:grpSpPr>
        <p:sp>
          <p:nvSpPr>
            <p:cNvPr id="84" name=""/>
            <p:cNvSpPr/>
            <p:nvPr/>
          </p:nvSpPr>
          <p:spPr>
            <a:xfrm flipV="1">
              <a:off x="7010280" y="2818800"/>
              <a:ext cx="152280" cy="990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010280" y="365688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8305920" y="1981080"/>
            <a:ext cx="152280" cy="990720"/>
            <a:chOff x="8305920" y="1981080"/>
            <a:chExt cx="152280" cy="990720"/>
          </a:xfrm>
        </p:grpSpPr>
        <p:sp>
          <p:nvSpPr>
            <p:cNvPr id="87" name=""/>
            <p:cNvSpPr/>
            <p:nvPr/>
          </p:nvSpPr>
          <p:spPr>
            <a:xfrm>
              <a:off x="830592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0592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848720" y="2819160"/>
            <a:ext cx="152280" cy="990360"/>
            <a:chOff x="7848720" y="2819160"/>
            <a:chExt cx="152280" cy="990360"/>
          </a:xfrm>
        </p:grpSpPr>
        <p:sp>
          <p:nvSpPr>
            <p:cNvPr id="90" name=""/>
            <p:cNvSpPr/>
            <p:nvPr/>
          </p:nvSpPr>
          <p:spPr>
            <a:xfrm flipV="1">
              <a:off x="7848720" y="2818800"/>
              <a:ext cx="152280" cy="990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7848720" y="365688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819520" y="2819520"/>
            <a:ext cx="990360" cy="152280"/>
            <a:chOff x="2819520" y="2819520"/>
            <a:chExt cx="990360" cy="152280"/>
          </a:xfrm>
        </p:grpSpPr>
        <p:sp>
          <p:nvSpPr>
            <p:cNvPr id="93" name=""/>
            <p:cNvSpPr/>
            <p:nvPr/>
          </p:nvSpPr>
          <p:spPr>
            <a:xfrm>
              <a:off x="2819520" y="2819520"/>
              <a:ext cx="99036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240" y="281952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33520" y="2819520"/>
            <a:ext cx="990360" cy="152280"/>
            <a:chOff x="533520" y="2819520"/>
            <a:chExt cx="990360" cy="152280"/>
          </a:xfrm>
        </p:grpSpPr>
        <p:sp>
          <p:nvSpPr>
            <p:cNvPr id="96" name=""/>
            <p:cNvSpPr/>
            <p:nvPr/>
          </p:nvSpPr>
          <p:spPr>
            <a:xfrm>
              <a:off x="533520" y="2819520"/>
              <a:ext cx="99036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71240" y="281952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467480" y="2819520"/>
            <a:ext cx="990720" cy="152280"/>
            <a:chOff x="7467480" y="2819520"/>
            <a:chExt cx="990720" cy="152280"/>
          </a:xfrm>
        </p:grpSpPr>
        <p:sp>
          <p:nvSpPr>
            <p:cNvPr id="99" name=""/>
            <p:cNvSpPr/>
            <p:nvPr/>
          </p:nvSpPr>
          <p:spPr>
            <a:xfrm>
              <a:off x="7467480" y="2819520"/>
              <a:ext cx="99072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05560" y="2819520"/>
              <a:ext cx="15264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629400" y="2819520"/>
            <a:ext cx="990720" cy="152280"/>
            <a:chOff x="6629400" y="2819520"/>
            <a:chExt cx="990720" cy="152280"/>
          </a:xfrm>
        </p:grpSpPr>
        <p:sp>
          <p:nvSpPr>
            <p:cNvPr id="102" name=""/>
            <p:cNvSpPr/>
            <p:nvPr/>
          </p:nvSpPr>
          <p:spPr>
            <a:xfrm>
              <a:off x="6629400" y="2819520"/>
              <a:ext cx="99072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67480" y="2819520"/>
              <a:ext cx="15264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791320" y="2819520"/>
            <a:ext cx="990360" cy="152280"/>
            <a:chOff x="5791320" y="2819520"/>
            <a:chExt cx="990360" cy="152280"/>
          </a:xfrm>
        </p:grpSpPr>
        <p:sp>
          <p:nvSpPr>
            <p:cNvPr id="105" name=""/>
            <p:cNvSpPr/>
            <p:nvPr/>
          </p:nvSpPr>
          <p:spPr>
            <a:xfrm>
              <a:off x="5791320" y="2819520"/>
              <a:ext cx="99036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29040" y="281952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-304920" y="4878360"/>
            <a:ext cx="9601200" cy="1312920"/>
            <a:chOff x="-304920" y="4878360"/>
            <a:chExt cx="9601200" cy="1312920"/>
          </a:xfrm>
        </p:grpSpPr>
        <p:graphicFrame>
          <p:nvGraphicFramePr>
            <p:cNvPr id="108" name=""/>
            <p:cNvGraphicFramePr/>
            <p:nvPr/>
          </p:nvGraphicFramePr>
          <p:xfrm>
            <a:off x="-304920" y="4883040"/>
            <a:ext cx="9601200" cy="1308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304920" y="4883040"/>
                      <a:ext cx="9601200" cy="13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5943600" y="4878360"/>
              <a:ext cx="6858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828800" y="4062240"/>
            <a:ext cx="52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 and complete the table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59120" y="54212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51400" y="5415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75200" y="5415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19600" y="54244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22960" y="54244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40560" y="54244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05760" y="54180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56640" y="546588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3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6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4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2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80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6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4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20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8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6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4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12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8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6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44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2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45280" y="3189240"/>
            <a:ext cx="522000" cy="490680"/>
          </a:xfrm>
          <a:prstGeom prst="ellipse">
            <a:avLst/>
          </a:prstGeom>
          <a:solidFill>
            <a:srgbClr val="f1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98800" y="3170160"/>
            <a:ext cx="522000" cy="490680"/>
          </a:xfrm>
          <a:prstGeom prst="ellipse">
            <a:avLst/>
          </a:prstGeom>
          <a:solidFill>
            <a:srgbClr val="f1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pil 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d the following grad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is S1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20720" y="1658880"/>
            <a:ext cx="77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59%, 61%, 60%, 51%, 58%, 68%, 49%, 57%, 63%, 5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6440" y="2227320"/>
            <a:ext cx="70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w a box plot to illustrate his 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30080" y="3247920"/>
            <a:ext cx="77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49%, 51%, 56%, 57%, 58%, 59%, 60%, 61%, 63%, 6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6480" y="4294080"/>
            <a:ext cx="62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10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6200" y="4890960"/>
            <a:ext cx="62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5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560" y="5472000"/>
            <a:ext cx="62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5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86240" y="4297320"/>
            <a:ext cx="187812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58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27640" y="4894200"/>
            <a:ext cx="171468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5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43480" y="5497560"/>
            <a:ext cx="171468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6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95640" y="2852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755640" y="3573360"/>
            <a:ext cx="6480360" cy="384120"/>
            <a:chOff x="755640" y="3573360"/>
            <a:chExt cx="6480360" cy="384120"/>
          </a:xfrm>
        </p:grpSpPr>
        <p:sp>
          <p:nvSpPr>
            <p:cNvPr id="470" name=""/>
            <p:cNvSpPr/>
            <p:nvPr/>
          </p:nvSpPr>
          <p:spPr>
            <a:xfrm>
              <a:off x="755640" y="3573360"/>
              <a:ext cx="3168720" cy="384120"/>
            </a:xfrm>
            <a:custGeom>
              <a:avLst/>
              <a:gdLst/>
              <a:ahLst/>
              <a:rect l="l" t="t" r="r" b="b"/>
              <a:pathLst>
                <a:path w="1996" h="242">
                  <a:moveTo>
                    <a:pt x="0" y="0"/>
                  </a:moveTo>
                  <a:cubicBezTo>
                    <a:pt x="257" y="106"/>
                    <a:pt x="514" y="212"/>
                    <a:pt x="680" y="227"/>
                  </a:cubicBezTo>
                  <a:cubicBezTo>
                    <a:pt x="846" y="242"/>
                    <a:pt x="900" y="90"/>
                    <a:pt x="998" y="90"/>
                  </a:cubicBezTo>
                  <a:cubicBezTo>
                    <a:pt x="1096" y="90"/>
                    <a:pt x="1104" y="242"/>
                    <a:pt x="1270" y="227"/>
                  </a:cubicBezTo>
                  <a:cubicBezTo>
                    <a:pt x="1436" y="212"/>
                    <a:pt x="1716" y="106"/>
                    <a:pt x="199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67280" y="3573360"/>
              <a:ext cx="3168720" cy="384120"/>
            </a:xfrm>
            <a:custGeom>
              <a:avLst/>
              <a:gdLst/>
              <a:ahLst/>
              <a:rect l="l" t="t" r="r" b="b"/>
              <a:pathLst>
                <a:path w="1996" h="242">
                  <a:moveTo>
                    <a:pt x="0" y="0"/>
                  </a:moveTo>
                  <a:cubicBezTo>
                    <a:pt x="257" y="106"/>
                    <a:pt x="514" y="212"/>
                    <a:pt x="680" y="227"/>
                  </a:cubicBezTo>
                  <a:cubicBezTo>
                    <a:pt x="846" y="242"/>
                    <a:pt x="900" y="90"/>
                    <a:pt x="998" y="90"/>
                  </a:cubicBezTo>
                  <a:cubicBezTo>
                    <a:pt x="1096" y="90"/>
                    <a:pt x="1104" y="242"/>
                    <a:pt x="1270" y="227"/>
                  </a:cubicBezTo>
                  <a:cubicBezTo>
                    <a:pt x="1436" y="212"/>
                    <a:pt x="1716" y="106"/>
                    <a:pt x="199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9" dur="indefinite" restart="never" nodeType="tmRoot">
          <p:childTnLst>
            <p:seq>
              <p:cTn id="1880" dur="indefinite" nodeType="mainSeq">
                <p:childTnLst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fill="hold">
                            <p:stCondLst>
                              <p:cond delay="500"/>
                            </p:stCondLst>
                            <p:childTnLst>
                              <p:par>
                                <p:cTn id="19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395280" y="1908000"/>
            <a:ext cx="8064360" cy="657000"/>
            <a:chOff x="395280" y="1908000"/>
            <a:chExt cx="8064360" cy="657000"/>
          </a:xfrm>
        </p:grpSpPr>
        <p:sp>
          <p:nvSpPr>
            <p:cNvPr id="473" name=""/>
            <p:cNvSpPr/>
            <p:nvPr/>
          </p:nvSpPr>
          <p:spPr>
            <a:xfrm>
              <a:off x="611280" y="1908000"/>
              <a:ext cx="756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12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42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8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7636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923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923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08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24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40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574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7344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7020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9862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018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178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3528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512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512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6728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82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98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1636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323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323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4836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64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80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974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1344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1200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276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436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596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7708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0930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930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087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247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407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5816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1741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5280" y="2196720"/>
              <a:ext cx="806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4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5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60            70              80            90            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924360" y="907560"/>
            <a:ext cx="4103640" cy="864000"/>
            <a:chOff x="3924360" y="907560"/>
            <a:chExt cx="4103640" cy="864000"/>
          </a:xfrm>
        </p:grpSpPr>
        <p:sp>
          <p:nvSpPr>
            <p:cNvPr id="518" name=""/>
            <p:cNvSpPr/>
            <p:nvPr/>
          </p:nvSpPr>
          <p:spPr>
            <a:xfrm flipV="1">
              <a:off x="392436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28472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94036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09308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802800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24360" y="1339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84720" y="90792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84720" y="177156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91280" y="13399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700360" y="2635200"/>
            <a:ext cx="2016000" cy="865080"/>
            <a:chOff x="2700360" y="2635200"/>
            <a:chExt cx="2016000" cy="865080"/>
          </a:xfrm>
        </p:grpSpPr>
        <p:sp>
          <p:nvSpPr>
            <p:cNvPr id="528" name=""/>
            <p:cNvSpPr/>
            <p:nvPr/>
          </p:nvSpPr>
          <p:spPr>
            <a:xfrm>
              <a:off x="3708360" y="263520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00360" y="263520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19640" y="263520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95640" y="263520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16360" y="263520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19640" y="3500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19640" y="263520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00360" y="30668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97440" y="30668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067280" y="476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                     79             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2771640" y="3573000"/>
            <a:ext cx="4248360" cy="649800"/>
            <a:chOff x="2771640" y="3573000"/>
            <a:chExt cx="4248360" cy="649800"/>
          </a:xfrm>
        </p:grpSpPr>
        <p:sp>
          <p:nvSpPr>
            <p:cNvPr id="539" name=""/>
            <p:cNvSpPr/>
            <p:nvPr/>
          </p:nvSpPr>
          <p:spPr>
            <a:xfrm>
              <a:off x="2771640" y="3854520"/>
              <a:ext cx="42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6      58.5     61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2987640" y="3573000"/>
              <a:ext cx="432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708360" y="357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3995280" y="357300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539640" y="765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pi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27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pi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0920" y="47912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rvation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0920" y="541980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pil A interquartile range 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0920" y="592452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pil B interquartile range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02200" y="5373720"/>
            <a:ext cx="482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upil A stronger stud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upil B more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30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complete the table finding the mean and 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547640" y="1484280"/>
          <a:ext cx="6769440" cy="3098880"/>
        </p:xfrm>
        <a:graphic>
          <a:graphicData uri="http://schemas.openxmlformats.org/drawingml/2006/table">
            <a:tbl>
              <a:tblPr/>
              <a:tblGrid>
                <a:gridCol w="1524240"/>
                <a:gridCol w="1644480"/>
                <a:gridCol w="1727280"/>
                <a:gridCol w="1873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mulative 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tion x 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£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£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£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£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£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"/>
          <p:cNvSpPr/>
          <p:nvPr/>
        </p:nvSpPr>
        <p:spPr>
          <a:xfrm>
            <a:off x="5076720" y="2324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76720" y="2755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76720" y="321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076720" y="3692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76720" y="4124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04000" y="2324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04000" y="2755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04000" y="3187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04000" y="3692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0400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49800" y="4653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tal     =       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87280" y="5157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ean = 445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26 = £17.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187280" y="58626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edian = (26+1)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2 = 13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h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/14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h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43640" y="587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£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6" dur="indefinite" restart="never" nodeType="tmRoot">
          <p:childTnLst>
            <p:seq>
              <p:cTn id="2037" dur="indefinite" nodeType="mainSeq">
                <p:childTnLst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9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1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1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9" dur="8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0" dur="8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8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8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9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1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complete the table finding the mean and 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95280" y="1484280"/>
          <a:ext cx="7993080" cy="3098880"/>
        </p:xfrm>
        <a:graphic>
          <a:graphicData uri="http://schemas.openxmlformats.org/drawingml/2006/table">
            <a:tbl>
              <a:tblPr/>
              <a:tblGrid>
                <a:gridCol w="1512720"/>
                <a:gridCol w="1079640"/>
                <a:gridCol w="1728720"/>
                <a:gridCol w="1800360"/>
                <a:gridCol w="18716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rts Sc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mulative 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score x 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– 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– 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– 7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– 9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5219640" y="2324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219640" y="2755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19640" y="321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19640" y="3692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9640" y="4124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946920" y="2324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946920" y="2755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46920" y="3187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46920" y="3692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94692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49800" y="4653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tal     =       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187280" y="5157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ean = 900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24 = 37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187280" y="58626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edian = (24+1)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2 = 12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h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/13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h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586560" y="5877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0 – 39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7" dur="indefinite" restart="never" nodeType="tmRoot">
          <p:childTnLst>
            <p:seq>
              <p:cTn id="2158" dur="indefinite" nodeType="mainSeq">
                <p:childTnLst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6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9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8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4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9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3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4" dur="4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4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9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range fall was recorded over one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50920" y="119700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ty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6mm, 30mm, 2mm, 27mm, 26mm, 30mm, 30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0920" y="177336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ty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0mm, 2mm, 68mm, 75mm, 9mm, 0mm, 0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7280" y="288756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the mean and standard deviation for both 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4000" y="360828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nt on your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631960" y="4435560"/>
                <a:ext cx="23716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324000" y="2205000"/>
          <a:ext cx="4895640" cy="4083120"/>
        </p:xfrm>
        <a:graphic>
          <a:graphicData uri="http://schemas.openxmlformats.org/drawingml/2006/table">
            <a:tbl>
              <a:tblPr/>
              <a:tblGrid>
                <a:gridCol w="1523880"/>
                <a:gridCol w="1644480"/>
                <a:gridCol w="172728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2052720" y="3116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2720" y="3548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05272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052720" y="4484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52720" y="4916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52720" y="5419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52720" y="58514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52720" y="30448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2720" y="34765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52720" y="4005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092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ty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16mm, 30mm, 2mm, 27mm, 26mm, 30mm, 30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239920" y="2278080"/>
                <a:ext cx="9637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3780000" y="2247840"/>
                <a:ext cx="13190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3852720" y="44845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52720" y="49165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52720" y="54198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52720" y="58514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755640" y="1079640"/>
                <a:ext cx="136836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2401920" y="1122480"/>
                <a:ext cx="12445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3946680" y="1316160"/>
                <a:ext cx="10569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729400" y="1700280"/>
                <a:ext cx="23716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6132600" y="3075120"/>
                <a:ext cx="1554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6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5959440" y="4459320"/>
                <a:ext cx="19494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6278400" y="5437080"/>
                <a:ext cx="13179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0" dur="indefinite" restart="never" nodeType="tmRoot">
          <p:childTnLst>
            <p:seq>
              <p:cTn id="2261" dur="indefinite" nodeType="mainSeq">
                <p:childTnLst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0" dur="77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1" dur="770" fill="hold"/>
                                        <p:tgtEl>
                                          <p:spTgt spid="5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3" dur="77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5" dur="77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6" dur="77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7" dur="770" fill="hold"/>
                                        <p:tgtEl>
                                          <p:spTgt spid="5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9" dur="77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1" dur="77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7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3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8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5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5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413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324000" y="2205000"/>
          <a:ext cx="4895640" cy="4083120"/>
        </p:xfrm>
        <a:graphic>
          <a:graphicData uri="http://schemas.openxmlformats.org/drawingml/2006/table">
            <a:tbl>
              <a:tblPr/>
              <a:tblGrid>
                <a:gridCol w="1523880"/>
                <a:gridCol w="1644480"/>
                <a:gridCol w="172728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2052720" y="3116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052720" y="3548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272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2720" y="4484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2720" y="4916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2720" y="5419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2720" y="58514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852720" y="30448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52720" y="34765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52720" y="4005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239920" y="2278080"/>
                <a:ext cx="9637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3780000" y="2247840"/>
                <a:ext cx="13190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5" name=""/>
          <p:cNvSpPr/>
          <p:nvPr/>
        </p:nvSpPr>
        <p:spPr>
          <a:xfrm>
            <a:off x="3852720" y="44845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8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52720" y="49165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52720" y="54198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52720" y="58514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755640" y="1079640"/>
                <a:ext cx="136836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387520" y="1122480"/>
                <a:ext cx="127476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3946680" y="1316160"/>
                <a:ext cx="10569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729400" y="1700280"/>
                <a:ext cx="23716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6054840" y="3075120"/>
                <a:ext cx="17110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946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880240" y="4459320"/>
                <a:ext cx="21081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265800" y="5437080"/>
                <a:ext cx="1344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6" name=""/>
          <p:cNvSpPr/>
          <p:nvPr/>
        </p:nvSpPr>
        <p:spPr>
          <a:xfrm>
            <a:off x="3240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ty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mm, 2mm, 68mm, 75mm, 9mm, 0mm, 0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6" dur="indefinite" restart="never" nodeType="tmRoot">
          <p:childTnLst>
            <p:seq>
              <p:cTn id="2487" dur="indefinite" nodeType="mainSeq">
                <p:childTnLst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6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8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9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0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187280" y="836640"/>
                <a:ext cx="19004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073160" y="2044800"/>
                <a:ext cx="26128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649840" y="836640"/>
                <a:ext cx="19479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5440320" y="2060640"/>
                <a:ext cx="26607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2" name=""/>
          <p:cNvGrpSpPr/>
          <p:nvPr/>
        </p:nvGrpSpPr>
        <p:grpSpPr>
          <a:xfrm>
            <a:off x="503280" y="3716280"/>
            <a:ext cx="8893080" cy="974880"/>
            <a:chOff x="503280" y="3716280"/>
            <a:chExt cx="8893080" cy="974880"/>
          </a:xfrm>
        </p:grpSpPr>
        <p:sp>
          <p:nvSpPr>
            <p:cNvPr id="643" name=""/>
            <p:cNvSpPr/>
            <p:nvPr/>
          </p:nvSpPr>
          <p:spPr>
            <a:xfrm>
              <a:off x="503280" y="3716280"/>
              <a:ext cx="88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ty 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6mm, 30mm, 2mm, 27mm, 26mm, 30mm, 30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3280" y="4292280"/>
              <a:ext cx="88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ty B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mm, 2mm, 68mm, 75mm, 9mm, 0mm, 0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324000" y="306864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RV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71640" y="486900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lthough both Cities had a similar average rainfall for the week, the higher standard deviation for City B suggests that the rain fall was much more va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3" dur="indefinite" restart="never" nodeType="tmRoot">
          <p:childTnLst>
            <p:seq>
              <p:cTn id="2714" dur="indefinite" nodeType="mainSeq">
                <p:childTnLst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2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rem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79280" y="189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d on a scale for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1914480" y="981000"/>
            <a:ext cx="6257880" cy="1288800"/>
            <a:chOff x="1914480" y="981000"/>
            <a:chExt cx="6257880" cy="1288800"/>
          </a:xfrm>
        </p:grpSpPr>
        <p:sp>
          <p:nvSpPr>
            <p:cNvPr id="651" name=""/>
            <p:cNvSpPr/>
            <p:nvPr/>
          </p:nvSpPr>
          <p:spPr>
            <a:xfrm>
              <a:off x="2082600" y="981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82600" y="126828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30600" y="12682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32400" y="126828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80040" y="981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14480" y="162864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04000" y="159228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90840" y="1484280"/>
              <a:ext cx="1440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/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906560" y="2652840"/>
                <a:ext cx="53294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ven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favourable outcom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outco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252360" y="364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941400" y="4292640"/>
                <a:ext cx="1677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Jack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5651640" y="4292640"/>
                <a:ext cx="15843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eart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9360" y="5451480"/>
                <a:ext cx="1876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ice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780000" y="5451480"/>
                <a:ext cx="34318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ai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w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ce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700360" y="4181400"/>
                <a:ext cx="12254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6" name=""/>
          <p:cNvSpPr/>
          <p:nvPr/>
        </p:nvSpPr>
        <p:spPr>
          <a:xfrm flipV="1">
            <a:off x="2268360" y="126828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7380360" y="4149720"/>
                <a:ext cx="10778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8" name=""/>
          <p:cNvSpPr/>
          <p:nvPr/>
        </p:nvSpPr>
        <p:spPr>
          <a:xfrm flipV="1">
            <a:off x="3348000" y="126828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268360" y="5332320"/>
                <a:ext cx="107820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 flipV="1">
            <a:off x="6372360" y="126828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308720" y="5332320"/>
                <a:ext cx="122400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2484360" y="83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40000" y="198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0360" y="198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4" dur="indefinite" restart="never" nodeType="tmRoot">
          <p:childTnLst>
            <p:seq>
              <p:cTn id="2825" dur="indefinite" nodeType="mainSeq">
                <p:childTnLst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0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6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7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8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0" fill="hold">
                      <p:stCondLst>
                        <p:cond delay="indefinite"/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0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1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4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5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2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3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8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9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6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7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2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3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table arrangements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-228600" y="4556160"/>
            <a:ext cx="9601200" cy="1316160"/>
            <a:chOff x="-228600" y="4556160"/>
            <a:chExt cx="9601200" cy="1316160"/>
          </a:xfrm>
        </p:grpSpPr>
        <p:graphicFrame>
          <p:nvGraphicFramePr>
            <p:cNvPr id="122" name=""/>
            <p:cNvGraphicFramePr/>
            <p:nvPr/>
          </p:nvGraphicFramePr>
          <p:xfrm>
            <a:off x="-228600" y="4560840"/>
            <a:ext cx="9601200" cy="13114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228600" y="4560840"/>
                      <a:ext cx="9601200" cy="131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6043680" y="4556160"/>
              <a:ext cx="657000" cy="995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689200" y="2236680"/>
            <a:ext cx="1039680" cy="98280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498840" y="2604960"/>
            <a:ext cx="1039680" cy="98280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34040" y="2236680"/>
            <a:ext cx="1039680" cy="98280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041880" y="2604960"/>
            <a:ext cx="1041480" cy="98280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1520" y="2236680"/>
            <a:ext cx="1043280" cy="98280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6640" y="2236680"/>
            <a:ext cx="1041480" cy="98280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6280" y="2236680"/>
            <a:ext cx="11736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54000" y="2236680"/>
            <a:ext cx="1144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78120" y="2851200"/>
            <a:ext cx="11592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8520" y="3343320"/>
            <a:ext cx="11736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0720" y="2851200"/>
            <a:ext cx="11592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03680" y="2236680"/>
            <a:ext cx="11556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71840" y="2851200"/>
            <a:ext cx="11736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98840" y="2236680"/>
            <a:ext cx="1144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0720" y="2436840"/>
            <a:ext cx="11592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51080" y="3343320"/>
            <a:ext cx="11592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38520" y="2851200"/>
            <a:ext cx="11592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07040" y="3463920"/>
            <a:ext cx="11736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13320" y="3463920"/>
            <a:ext cx="11556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48160" y="2236680"/>
            <a:ext cx="1159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16680" y="2851200"/>
            <a:ext cx="11736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95920" y="3343320"/>
            <a:ext cx="11592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59600" y="3463920"/>
            <a:ext cx="1141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1520" y="3463920"/>
            <a:ext cx="1177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6640" y="3343320"/>
            <a:ext cx="11448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94800" y="2973240"/>
            <a:ext cx="1141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41880" y="2236680"/>
            <a:ext cx="1177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04120" y="2436840"/>
            <a:ext cx="11736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69240" y="2236680"/>
            <a:ext cx="1141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61160" y="2236680"/>
            <a:ext cx="1177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22480" y="5087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14760" y="50817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38560" y="50817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82960" y="5091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86320" y="5091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5091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69120" y="50846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20000" y="51325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3n+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3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1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7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3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6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9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7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3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1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19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27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430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6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9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82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98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6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14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22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38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46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4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62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ed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47680" y="1773360"/>
                <a:ext cx="3465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c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earts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331920" y="2755800"/>
                <a:ext cx="33019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Jac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Queen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09520" y="3979800"/>
                <a:ext cx="36957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a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ead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93760" y="5421240"/>
                <a:ext cx="35640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i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e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4089240" y="1484280"/>
                <a:ext cx="22114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4067280" y="2549520"/>
                <a:ext cx="22111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485040" y="2549520"/>
                <a:ext cx="8236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4284720" y="3700440"/>
                <a:ext cx="16174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4211640" y="5141880"/>
                <a:ext cx="1781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6" dur="indefinite" restart="never" nodeType="tmRoot">
          <p:childTnLst>
            <p:seq>
              <p:cTn id="2897" dur="indefinite" nodeType="mainSeq">
                <p:childTnLst>
                  <p:par>
                    <p:cTn id="2898" fill="hold">
                      <p:stCondLst>
                        <p:cond delay="indefinite"/>
                      </p:stCondLst>
                      <p:childTnLst>
                        <p:par>
                          <p:cTn id="2899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2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1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8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4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5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ed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725400" y="1700280"/>
                <a:ext cx="3133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i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il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461880" y="5637240"/>
                <a:ext cx="38941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a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e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4538520" y="1484280"/>
                <a:ext cx="16178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572000" y="5357880"/>
                <a:ext cx="1781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90" name=""/>
          <p:cNvGrpSpPr/>
          <p:nvPr/>
        </p:nvGrpSpPr>
        <p:grpSpPr>
          <a:xfrm>
            <a:off x="466560" y="2565360"/>
            <a:ext cx="2449440" cy="2017440"/>
            <a:chOff x="466560" y="2565360"/>
            <a:chExt cx="2449440" cy="2017440"/>
          </a:xfrm>
        </p:grpSpPr>
        <p:grpSp>
          <p:nvGrpSpPr>
            <p:cNvPr id="691" name=""/>
            <p:cNvGrpSpPr/>
            <p:nvPr/>
          </p:nvGrpSpPr>
          <p:grpSpPr>
            <a:xfrm>
              <a:off x="466560" y="3070080"/>
              <a:ext cx="865080" cy="1225440"/>
              <a:chOff x="466560" y="3070080"/>
              <a:chExt cx="865080" cy="1225440"/>
            </a:xfrm>
          </p:grpSpPr>
          <p:sp>
            <p:nvSpPr>
              <p:cNvPr id="692" name=""/>
              <p:cNvSpPr/>
              <p:nvPr/>
            </p:nvSpPr>
            <p:spPr>
              <a:xfrm flipV="1">
                <a:off x="466560" y="3141000"/>
                <a:ext cx="86508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66560" y="3717720"/>
                <a:ext cx="86508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82560" y="30700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2560" y="392724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1330200" y="3573360"/>
              <a:ext cx="865080" cy="1009440"/>
              <a:chOff x="1330200" y="3573360"/>
              <a:chExt cx="865080" cy="1009440"/>
            </a:xfrm>
          </p:grpSpPr>
          <p:sp>
            <p:nvSpPr>
              <p:cNvPr id="697" name=""/>
              <p:cNvSpPr/>
              <p:nvPr/>
            </p:nvSpPr>
            <p:spPr>
              <a:xfrm flipV="1">
                <a:off x="1330200" y="3706560"/>
                <a:ext cx="86508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30200" y="4079520"/>
                <a:ext cx="86508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546200" y="357336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546200" y="421452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331640" y="2637000"/>
              <a:ext cx="865080" cy="1009440"/>
              <a:chOff x="1331640" y="2637000"/>
              <a:chExt cx="865080" cy="1009440"/>
            </a:xfrm>
          </p:grpSpPr>
          <p:sp>
            <p:nvSpPr>
              <p:cNvPr id="702" name=""/>
              <p:cNvSpPr/>
              <p:nvPr/>
            </p:nvSpPr>
            <p:spPr>
              <a:xfrm flipV="1">
                <a:off x="1331640" y="2770200"/>
                <a:ext cx="86508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31640" y="3143160"/>
                <a:ext cx="86508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547640" y="263700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547640" y="327816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2339640" y="25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39640" y="31352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39640" y="34956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39640" y="41432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6300720" y="2421000"/>
            <a:ext cx="2232000" cy="3600000"/>
            <a:chOff x="6300720" y="2421000"/>
            <a:chExt cx="2232000" cy="3600000"/>
          </a:xfrm>
        </p:grpSpPr>
        <p:sp>
          <p:nvSpPr>
            <p:cNvPr id="711" name=""/>
            <p:cNvSpPr/>
            <p:nvPr/>
          </p:nvSpPr>
          <p:spPr>
            <a:xfrm flipV="1">
              <a:off x="6300720" y="3139560"/>
              <a:ext cx="72072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00720" y="4221000"/>
              <a:ext cx="7207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7021440" y="2421000"/>
              <a:ext cx="934920" cy="1439640"/>
              <a:chOff x="7021440" y="2421000"/>
              <a:chExt cx="934920" cy="1439640"/>
            </a:xfrm>
          </p:grpSpPr>
          <p:sp>
            <p:nvSpPr>
              <p:cNvPr id="714" name=""/>
              <p:cNvSpPr/>
              <p:nvPr/>
            </p:nvSpPr>
            <p:spPr>
              <a:xfrm flipV="1">
                <a:off x="7021440" y="2421000"/>
                <a:ext cx="79200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7021440" y="2708280"/>
                <a:ext cx="79200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7021440" y="2924280"/>
                <a:ext cx="86364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21440" y="3141720"/>
                <a:ext cx="86364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21440" y="3141720"/>
                <a:ext cx="93492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21440" y="3141720"/>
                <a:ext cx="86364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7021440" y="4581360"/>
              <a:ext cx="934920" cy="1439640"/>
              <a:chOff x="7021440" y="4581360"/>
              <a:chExt cx="934920" cy="1439640"/>
            </a:xfrm>
          </p:grpSpPr>
          <p:sp>
            <p:nvSpPr>
              <p:cNvPr id="721" name=""/>
              <p:cNvSpPr/>
              <p:nvPr/>
            </p:nvSpPr>
            <p:spPr>
              <a:xfrm flipV="1">
                <a:off x="7021440" y="4581360"/>
                <a:ext cx="79200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7021440" y="4868640"/>
                <a:ext cx="79200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7021440" y="5084640"/>
                <a:ext cx="86364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21440" y="5302080"/>
                <a:ext cx="86364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21440" y="5302080"/>
                <a:ext cx="93492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021440" y="5302080"/>
                <a:ext cx="86364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6300720" y="3357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00720" y="47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956360" y="3716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4" dur="indefinite" restart="never" nodeType="tmRoot">
          <p:childTnLst>
            <p:seq>
              <p:cTn id="2935" dur="indefinite" nodeType="mainSeq">
                <p:childTnLst>
                  <p:par>
                    <p:cTn id="2936" fill="hold">
                      <p:stCondLst>
                        <p:cond delay="indefinite"/>
                      </p:stCondLst>
                      <p:childTnLst>
                        <p:par>
                          <p:cTn id="2937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0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1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2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4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Expec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24000" y="119700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ris plays the game 30 times, how many games should he expect to w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5866920" y="1268280"/>
            <a:ext cx="2160720" cy="1727280"/>
            <a:chOff x="5866920" y="1268280"/>
            <a:chExt cx="2160720" cy="1727280"/>
          </a:xfrm>
        </p:grpSpPr>
        <p:sp>
          <p:nvSpPr>
            <p:cNvPr id="733" name=""/>
            <p:cNvSpPr/>
            <p:nvPr/>
          </p:nvSpPr>
          <p:spPr>
            <a:xfrm flipH="1">
              <a:off x="5867280" y="2060280"/>
              <a:ext cx="1224000" cy="86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867280" y="1268280"/>
              <a:ext cx="1871640" cy="172728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803640" y="12682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6803640" y="1915560"/>
              <a:ext cx="935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03640" y="2276280"/>
              <a:ext cx="57636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227640" y="2276280"/>
              <a:ext cx="57600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5866920" y="1915560"/>
              <a:ext cx="93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5280" y="1699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98920" y="1699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560" y="22032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586200" y="25635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54560" y="22698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803640" y="1411200"/>
              <a:ext cx="122400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324000" y="407664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0 people were born in August. How many would you expect to be born o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7359480" y="4221000"/>
            <a:ext cx="1100160" cy="154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833400" y="2492280"/>
                <a:ext cx="32338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ial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917640" y="2997360"/>
                <a:ext cx="25747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win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695160" y="5029200"/>
                <a:ext cx="34974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o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1031760" y="5645160"/>
                <a:ext cx="23097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3635280" y="5919840"/>
                <a:ext cx="19144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wins</m:t>
                    </m:r>
                    <m:r>
                      <m:rPr>
                        <m:lit/>
                        <m:nor/>
                      </m:rPr>
                      <m:t xml:space="preserve">?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1" dur="indefinite" restart="never" nodeType="tmRoot">
          <p:childTnLst>
            <p:seq>
              <p:cTn id="2962" dur="indefinite" nodeType="mainSeq">
                <p:childTnLst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7" dur="8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8" dur="8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9" dur="8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74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6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7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2" dur="1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3" dur="4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4" dur="4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395280" y="3357720"/>
          <a:ext cx="3335400" cy="3189240"/>
        </p:xfrm>
        <a:graphic>
          <a:graphicData uri="http://schemas.openxmlformats.org/drawingml/2006/table">
            <a:tbl>
              <a:tblPr/>
              <a:tblGrid>
                <a:gridCol w="1392480"/>
                <a:gridCol w="1942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"/>
          <p:cNvSpPr/>
          <p:nvPr/>
        </p:nvSpPr>
        <p:spPr>
          <a:xfrm>
            <a:off x="611280" y="981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nnah makes a die, rolls it 400 times and records her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11280" y="1592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. Calculate the relative frequency of 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1280" y="195264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. Calculate the relative frequency of a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11280" y="231156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. What can you deduce about the di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586400" y="2792520"/>
                <a:ext cx="29318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4592520" y="3889440"/>
                <a:ext cx="29322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716360" y="5041800"/>
                <a:ext cx="22575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"/>
          <p:cNvSpPr/>
          <p:nvPr/>
        </p:nvSpPr>
        <p:spPr>
          <a:xfrm>
            <a:off x="4356000" y="59562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ies too many fives, perhaps her dice is 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7" dur="indefinite" restart="never" nodeType="tmRoot">
          <p:childTnLst>
            <p:seq>
              <p:cTn id="2998" dur="indefinite" nodeType="mainSeq">
                <p:childTnLst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5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6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complete the tabl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816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19320" y="4394160"/>
            <a:ext cx="6825600" cy="1133280"/>
            <a:chOff x="1219320" y="4394160"/>
            <a:chExt cx="6825600" cy="1133280"/>
          </a:xfrm>
        </p:grpSpPr>
        <p:sp>
          <p:nvSpPr>
            <p:cNvPr id="166" name=""/>
            <p:cNvSpPr/>
            <p:nvPr/>
          </p:nvSpPr>
          <p:spPr>
            <a:xfrm>
              <a:off x="1219320" y="4394160"/>
              <a:ext cx="6825600" cy="113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4909320"/>
              <a:ext cx="682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6680" y="439416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85280" y="439416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78960" y="439416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73000" y="439416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81640" y="439416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97560" y="439416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91240" y="439416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41880" y="4394160"/>
              <a:ext cx="4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35920" y="4394160"/>
              <a:ext cx="4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02120" y="4394160"/>
              <a:ext cx="4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29600" y="4394160"/>
              <a:ext cx="4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8200" y="4394160"/>
              <a:ext cx="4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54160" y="4394160"/>
              <a:ext cx="70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17080" y="4394160"/>
              <a:ext cx="4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54400" y="4394160"/>
              <a:ext cx="188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u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54400" y="4909320"/>
              <a:ext cx="188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57080" y="1869120"/>
            <a:ext cx="1103760" cy="1588320"/>
            <a:chOff x="757080" y="1869120"/>
            <a:chExt cx="1103760" cy="1588320"/>
          </a:xfrm>
        </p:grpSpPr>
        <p:sp>
          <p:nvSpPr>
            <p:cNvPr id="185" name=""/>
            <p:cNvSpPr/>
            <p:nvPr/>
          </p:nvSpPr>
          <p:spPr>
            <a:xfrm>
              <a:off x="762120" y="2619360"/>
              <a:ext cx="15228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520" y="2619360"/>
              <a:ext cx="15228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181600">
              <a:off x="990360" y="1856880"/>
              <a:ext cx="152280" cy="838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9956000">
              <a:off x="1523880" y="1856880"/>
              <a:ext cx="152640" cy="838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14400" y="3305160"/>
              <a:ext cx="76212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798640" y="1894680"/>
            <a:ext cx="2018160" cy="1588320"/>
            <a:chOff x="2798640" y="1894680"/>
            <a:chExt cx="2018160" cy="1588320"/>
          </a:xfrm>
        </p:grpSpPr>
        <p:grpSp>
          <p:nvGrpSpPr>
            <p:cNvPr id="191" name=""/>
            <p:cNvGrpSpPr/>
            <p:nvPr/>
          </p:nvGrpSpPr>
          <p:grpSpPr>
            <a:xfrm>
              <a:off x="2798640" y="1894680"/>
              <a:ext cx="1103760" cy="1588320"/>
              <a:chOff x="2798640" y="1894680"/>
              <a:chExt cx="1103760" cy="1588320"/>
            </a:xfrm>
          </p:grpSpPr>
          <p:sp>
            <p:nvSpPr>
              <p:cNvPr id="192" name=""/>
              <p:cNvSpPr/>
              <p:nvPr/>
            </p:nvSpPr>
            <p:spPr>
              <a:xfrm>
                <a:off x="2803680" y="264492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18080" y="264492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181600">
                <a:off x="3031920" y="1882440"/>
                <a:ext cx="15228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9956000">
                <a:off x="3565440" y="1882440"/>
                <a:ext cx="15264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55960" y="3330720"/>
                <a:ext cx="76212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713040" y="1894680"/>
              <a:ext cx="1103760" cy="1588320"/>
              <a:chOff x="3713040" y="1894680"/>
              <a:chExt cx="1103760" cy="1588320"/>
            </a:xfrm>
          </p:grpSpPr>
          <p:sp>
            <p:nvSpPr>
              <p:cNvPr id="198" name=""/>
              <p:cNvSpPr/>
              <p:nvPr/>
            </p:nvSpPr>
            <p:spPr>
              <a:xfrm>
                <a:off x="3718080" y="264492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32480" y="264492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2181600">
                <a:off x="3946320" y="1882440"/>
                <a:ext cx="15228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956000">
                <a:off x="4479840" y="1882440"/>
                <a:ext cx="15264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70360" y="3330720"/>
                <a:ext cx="76212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5567040" y="1901160"/>
            <a:ext cx="2932200" cy="1588320"/>
            <a:chOff x="5567040" y="1901160"/>
            <a:chExt cx="2932200" cy="1588320"/>
          </a:xfrm>
        </p:grpSpPr>
        <p:grpSp>
          <p:nvGrpSpPr>
            <p:cNvPr id="204" name=""/>
            <p:cNvGrpSpPr/>
            <p:nvPr/>
          </p:nvGrpSpPr>
          <p:grpSpPr>
            <a:xfrm>
              <a:off x="5567040" y="1901160"/>
              <a:ext cx="1103760" cy="1588320"/>
              <a:chOff x="5567040" y="1901160"/>
              <a:chExt cx="1103760" cy="1588320"/>
            </a:xfrm>
          </p:grpSpPr>
          <p:sp>
            <p:nvSpPr>
              <p:cNvPr id="205" name=""/>
              <p:cNvSpPr/>
              <p:nvPr/>
            </p:nvSpPr>
            <p:spPr>
              <a:xfrm>
                <a:off x="5572080" y="265140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86480" y="265140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2181600">
                <a:off x="5800320" y="1888920"/>
                <a:ext cx="15228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9956000">
                <a:off x="6333840" y="1888920"/>
                <a:ext cx="15264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24360" y="3337200"/>
                <a:ext cx="76212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7395480" y="1901160"/>
              <a:ext cx="1103760" cy="1588320"/>
              <a:chOff x="7395480" y="1901160"/>
              <a:chExt cx="1103760" cy="1588320"/>
            </a:xfrm>
          </p:grpSpPr>
          <p:sp>
            <p:nvSpPr>
              <p:cNvPr id="211" name=""/>
              <p:cNvSpPr/>
              <p:nvPr/>
            </p:nvSpPr>
            <p:spPr>
              <a:xfrm>
                <a:off x="7400520" y="265140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314920" y="265140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2181600">
                <a:off x="7628760" y="1888920"/>
                <a:ext cx="15228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956000">
                <a:off x="8162280" y="1888920"/>
                <a:ext cx="15264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52800" y="3337200"/>
                <a:ext cx="76212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6481080" y="1901160"/>
              <a:ext cx="1103760" cy="1588320"/>
              <a:chOff x="6481080" y="1901160"/>
              <a:chExt cx="1103760" cy="1588320"/>
            </a:xfrm>
          </p:grpSpPr>
          <p:sp>
            <p:nvSpPr>
              <p:cNvPr id="217" name=""/>
              <p:cNvSpPr/>
              <p:nvPr/>
            </p:nvSpPr>
            <p:spPr>
              <a:xfrm>
                <a:off x="6486120" y="265140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400520" y="265140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181600">
                <a:off x="6714360" y="1888920"/>
                <a:ext cx="15228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9956000">
                <a:off x="7247880" y="1888920"/>
                <a:ext cx="15264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638400" y="3337200"/>
                <a:ext cx="76212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3068640" y="4967280"/>
            <a:ext cx="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60920" y="5005440"/>
            <a:ext cx="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5080" y="5006880"/>
            <a:ext cx="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97600" y="5008680"/>
            <a:ext cx="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51440" y="5008680"/>
            <a:ext cx="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51640" y="4998960"/>
            <a:ext cx="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57880" y="49849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n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000"/>
                            </p:stCondLst>
                            <p:childTnLst>
                              <p:par>
                                <p:cTn id="354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complete the follow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44680" y="1841400"/>
          <a:ext cx="8451720" cy="2162160"/>
        </p:xfrm>
        <a:graphic>
          <a:graphicData uri="http://schemas.openxmlformats.org/drawingml/2006/table">
            <a:tbl>
              <a:tblPr/>
              <a:tblGrid>
                <a:gridCol w="1382400"/>
                <a:gridCol w="957240"/>
                <a:gridCol w="957600"/>
                <a:gridCol w="957240"/>
                <a:gridCol w="957240"/>
                <a:gridCol w="957240"/>
                <a:gridCol w="957240"/>
                <a:gridCol w="132552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5969160" y="27608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62080" y="347976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x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08160" y="348948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x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4028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x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608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6x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292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x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59640" y="34574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2x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42160" y="27558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34160" y="348444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n+2)(n+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38920" y="277956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+5n+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complete the follow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4680" y="1841400"/>
          <a:ext cx="8451720" cy="2162160"/>
        </p:xfrm>
        <a:graphic>
          <a:graphicData uri="http://schemas.openxmlformats.org/drawingml/2006/table">
            <a:tbl>
              <a:tblPr/>
              <a:tblGrid>
                <a:gridCol w="1382400"/>
                <a:gridCol w="957240"/>
                <a:gridCol w="957600"/>
                <a:gridCol w="957240"/>
                <a:gridCol w="957240"/>
                <a:gridCol w="957240"/>
                <a:gridCol w="957240"/>
                <a:gridCol w="132552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969160" y="27608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62080" y="347976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x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08160" y="348948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x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4028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x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608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x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292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6x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59640" y="34574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1x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42160" y="27558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34160" y="348444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n+1)(n+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38920" y="277956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+5n+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complete the follow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44680" y="1841400"/>
          <a:ext cx="8451720" cy="2162160"/>
        </p:xfrm>
        <a:graphic>
          <a:graphicData uri="http://schemas.openxmlformats.org/drawingml/2006/table">
            <a:tbl>
              <a:tblPr/>
              <a:tblGrid>
                <a:gridCol w="1382400"/>
                <a:gridCol w="957240"/>
                <a:gridCol w="957600"/>
                <a:gridCol w="957240"/>
                <a:gridCol w="957240"/>
                <a:gridCol w="957240"/>
                <a:gridCol w="957240"/>
                <a:gridCol w="132552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5969160" y="27608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2080" y="347976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x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08160" y="348948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x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4028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x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608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6x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60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x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59640" y="34574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2x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42160" y="27558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04280" y="348444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n+2)(2n+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67640" y="277956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n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+7n+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complete the follow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44680" y="1841400"/>
          <a:ext cx="8451720" cy="2162160"/>
        </p:xfrm>
        <a:graphic>
          <a:graphicData uri="http://schemas.openxmlformats.org/drawingml/2006/table">
            <a:tbl>
              <a:tblPr/>
              <a:tblGrid>
                <a:gridCol w="1382400"/>
                <a:gridCol w="957240"/>
                <a:gridCol w="957600"/>
                <a:gridCol w="957240"/>
                <a:gridCol w="957240"/>
                <a:gridCol w="957240"/>
                <a:gridCol w="957240"/>
                <a:gridCol w="132552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5969160" y="27608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62080" y="347976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x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08160" y="348948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x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4028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x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608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x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292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x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34574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0x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42160" y="27558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34160" y="348444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(2n+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38920" y="277956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n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+2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complete the follow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44680" y="1841400"/>
          <a:ext cx="8451720" cy="2162160"/>
        </p:xfrm>
        <a:graphic>
          <a:graphicData uri="http://schemas.openxmlformats.org/drawingml/2006/table">
            <a:tbl>
              <a:tblPr/>
              <a:tblGrid>
                <a:gridCol w="1382400"/>
                <a:gridCol w="957240"/>
                <a:gridCol w="957600"/>
                <a:gridCol w="957240"/>
                <a:gridCol w="957240"/>
                <a:gridCol w="957240"/>
                <a:gridCol w="957240"/>
                <a:gridCol w="132552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>
            <a:off x="5969160" y="27608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62080" y="347976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x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8160" y="348948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x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4028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x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608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x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292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9x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59640" y="34574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9x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42160" y="27558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23280" y="3484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2n-1)(2n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738920" y="277956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4n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5:42:20Z</dcterms:created>
  <dc:creator/>
  <dc:description/>
  <dc:language>en-US</dc:language>
  <cp:lastModifiedBy/>
  <dcterms:modified xsi:type="dcterms:W3CDTF">2008-04-18T08:59:38Z</dcterms:modified>
  <cp:revision>39</cp:revision>
  <dc:subject/>
  <dc:title>Puzzles and Patterns</dc:title>
</cp:coreProperties>
</file>